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E37B-A722-499A-A92D-0F9EE3A6192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2B2-07B6-4502-93E2-96622D7EB27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609-D9B1-43A9-81CD-44903833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5C1-A9F2-452D-860D-23F00FA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45C-4942-4B80-8286-7915B702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E7F-7F47-4C8F-8B78-66F70786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0F8-7DD0-4229-A7D1-87E37B46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880-727B-420E-8A15-6D94347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681-F22E-4AB8-8057-0BE61BA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D64-99FE-4CF4-BCE4-2332C8EE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2C9-AD2D-4D15-A178-73120331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061-8E99-4726-8387-B6DE444E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C43-E2F1-4ED7-8B58-10DDD64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326-E851-4484-B9BA-5824240E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60C8-038B-4B31-9E13-91E865FD5F3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F1FD-E598-478B-85AF-1DEA0062B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EAB5-AB94-4C29-95C1-9F03C256F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B4F-3940-46A4-A93C-989DA83E5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2051-90A7-438A-8FE9-658DF2BE7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9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0EC-BB3F-4B96-A024-E787CCAC5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63C5-6C08-4771-93E6-2B019889F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EB1-02E1-4FA8-BCD5-E85EAE93B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922A-B40A-4D17-BF00-09853DBDE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53C7-B633-4696-828E-BFAAE4A0C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04DF-CE6D-49C4-AEE1-8A98A562C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ru-RU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0F34-230D-41FE-8607-D7F47A141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0FBE-15AF-42B9-A3C9-ACD42A536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ru-RU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ru-RU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ru-RU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711F-42AC-49D9-96B1-DE7DFA0F6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030-E5A1-4CAE-9747-A7CEC96E8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8E2B-EB25-41FC-B047-4F290C6B3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5749-EB27-41B0-9874-FC08667A4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70E2-0A24-4E6F-989D-487F2E240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0A50-DDF0-417E-BEF0-E99D0319C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Дуга 12"/>
          <p:cNvSpPr/>
          <p:nvPr/>
        </p:nvSpPr>
        <p:spPr>
          <a:xfrm>
            <a:off x="7000920" y="5072040"/>
            <a:ext cx="46080" cy="46080"/>
          </a:xfrm>
          <a:prstGeom prst="pie">
            <a:avLst/>
          </a:prstGeom>
          <a:noFill/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40ED-C812-406E-B75D-8FD61EF0A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C69A-AE9F-4DD4-8098-8043F2BE9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C3C4-6E4B-44A3-8ABC-F411116E3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23AA-9A1A-4E2F-823C-C5FCF6921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AEC-FD56-4B41-898A-A63367E53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0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1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49B7-1848-40CA-8FFD-5198C47D1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DD8E-C557-4D0F-B886-268FC7C1C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1-03-03T07:30:57Z</dcterms:modified>
  <cp:revision>305</cp:revision>
  <dc:subject/>
  <dc:title>Слайд 1</dc:title>
</cp:coreProperties>
</file>